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png" ContentType="image/png"/>
  <Override PartName="/ppt/media/image18.pct" ContentType="image/x-pict"/>
  <Override PartName="/ppt/media/image4.png" ContentType="image/png"/>
  <Override PartName="/ppt/media/image16.pct" ContentType="image/x-pict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047-01DC-4BE2-BE2C-09DC3933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1C1-9AEF-4427-A75D-53669A3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925-FA3A-4E12-925A-C4D62BC4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56B-BF00-40DB-9DBD-BEE41D50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EC0-3AB2-4BE9-845E-4206F9A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3A2-31DC-41C4-B5EE-2A377D1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BF7-61F5-49FE-8976-E5EFCB5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AE6-229D-4EDD-AFD9-0F564C0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473-F062-40AD-9D17-BBBBBDA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478-E127-4975-B47F-6803B072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DAA-5EC2-44B8-A23F-EC5E80C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2B9-7BAD-413F-AB0E-7C63C42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214D-D7C4-48D7-8011-9B342151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 2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cars going too fast outside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Jarrod, Callum</a:t>
            </a:r>
            <a:r>
              <a:rPr b="0" lang="en-US" sz="3200" spc="-1" strike="noStrike">
                <a:solidFill>
                  <a:srgbClr val="ff0000"/>
                </a:solidFill>
                <a:latin typeface="ヒラギノ角ゴ Pro W3"/>
              </a:rPr>
              <a:t>_x001a__x001a__x001a_ and J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83080" y="4343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ヒラギノ角ゴ Pro W3"/>
              </a:rPr>
              <a:t>_x001a__x001a__x001a__x001a__x001a__x001a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creen shot 2011-07-01 at 12.05.23 P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514600" y="60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table for 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creen shot 2011-06-28 at 9"/>
          <p:cNvPicPr/>
          <p:nvPr/>
        </p:nvPicPr>
        <p:blipFill>
          <a:blip r:embed="rId1"/>
          <a:stretch/>
        </p:blipFill>
        <p:spPr>
          <a:xfrm>
            <a:off x="1832040" y="228600"/>
            <a:ext cx="5721120" cy="6934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icture 5"/>
          <p:cNvPicPr/>
          <p:nvPr/>
        </p:nvPicPr>
        <p:blipFill>
          <a:blip r:embed="rId1"/>
          <a:stretch/>
        </p:blipFill>
        <p:spPr>
          <a:xfrm>
            <a:off x="2514600" y="2209680"/>
            <a:ext cx="4083120" cy="4092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000000"/>
                </a:solidFill>
                <a:latin typeface="Arial"/>
              </a:rPr>
              <a:t>Speed gun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36800" y="628560"/>
            <a:ext cx="5270400" cy="560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352680" y="6324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ack, Callum, and Jar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creen shot 2011-06-21 at 2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graph for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4" descr="Screen shot 2011-07-01 at 1.34.41 PM.png"/>
          <p:cNvPicPr/>
          <p:nvPr/>
        </p:nvPicPr>
        <p:blipFill>
          <a:blip r:embed="rId1"/>
          <a:srcRect l="-81418" t="0" r="-81418" b="0"/>
          <a:stretch/>
        </p:blipFill>
        <p:spPr>
          <a:xfrm>
            <a:off x="-838080" y="2209680"/>
            <a:ext cx="6350040" cy="335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789360" y="1828800"/>
            <a:ext cx="474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9296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reen shot 2011-06-24 at 11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52480" y="685800"/>
            <a:ext cx="6019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riday  Test 4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Picture 3"/>
          <p:cNvPicPr/>
          <p:nvPr/>
        </p:nvPicPr>
        <p:blipFill>
          <a:blip r:embed="rId1"/>
          <a:stretch/>
        </p:blipFill>
        <p:spPr>
          <a:xfrm>
            <a:off x="380880" y="2133720"/>
            <a:ext cx="8472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creen shot 2011-07-01 at 12.00.21 PM.png"/>
          <p:cNvPicPr/>
          <p:nvPr/>
        </p:nvPicPr>
        <p:blipFill>
          <a:blip r:embed="rId1"/>
          <a:stretch/>
        </p:blipFill>
        <p:spPr>
          <a:xfrm>
            <a:off x="0" y="1905120"/>
            <a:ext cx="929628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3048120" y="685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speeds every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KMBT_C552 11070111410.pd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000000"/>
                </a:solidFill>
                <a:latin typeface="Arial"/>
              </a:rPr>
              <a:t>Our questions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icture 4"/>
          <p:cNvPicPr/>
          <p:nvPr/>
        </p:nvPicPr>
        <p:blipFill>
          <a:blip r:embed="rId1"/>
          <a:stretch/>
        </p:blipFill>
        <p:spPr>
          <a:xfrm>
            <a:off x="1447920" y="2133720"/>
            <a:ext cx="6016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1:46:47Z</dcterms:created>
  <dc:creator>P Int</dc:creator>
  <dc:description/>
  <dc:language>en-US</dc:language>
  <cp:lastModifiedBy>Apple Education</cp:lastModifiedBy>
  <dcterms:modified xsi:type="dcterms:W3CDTF">2011-07-01T02:23:58Z</dcterms:modified>
  <cp:revision>17</cp:revision>
  <dc:subject/>
  <dc:title>Are cars going too fast outside school?</dc:title>
</cp:coreProperties>
</file>